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BB9A-510C-43B3-A8F7-AB7CCC7DF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7E0E-EE2D-4348-876A-23C346B04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8B5C-7044-412A-B1C3-1C146B277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33B0-83F0-42DB-877E-A8F2F2DB7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E839-A84A-4FFA-AC81-0B8BCCC01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5DF-0E6C-44F3-B13D-BA8D4A5B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35B-376E-461B-B060-776014E0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49B-A38F-44F1-963A-5765FB94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E52-9462-406B-9B66-3AA6A7FA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916-F3E0-4DEE-9C87-F8A210CC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911-1CAE-4CB9-B66B-817291F7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22E-6813-46CA-8DCF-3BF1DEB0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5B0-EB8C-4FCC-B526-3A272D2A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AA0-B177-41BC-98A2-D9332583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7F3-4055-4EC3-A113-843167BF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F6E-8082-4378-BCC3-9CC4276C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5A5-E49F-4B2B-9F07-24E1484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939D-887C-464E-879C-92C446CBC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800" y="8380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lackadder ITC"/>
              </a:rPr>
              <a:t>The Wife of Bat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cathedralcatholic.org/academics/homework/johnson/wifes%20of%20Bath.jpg"/>
          <p:cNvPicPr/>
          <p:nvPr/>
        </p:nvPicPr>
        <p:blipFill>
          <a:blip r:embed="rId1"/>
          <a:stretch/>
        </p:blipFill>
        <p:spPr>
          <a:xfrm>
            <a:off x="457200" y="762120"/>
            <a:ext cx="2390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of tale – Chivalric Ro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e – R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ishment – Find out what women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omen want?  To have control (power) over their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y – The queen has power over her husband and the knight.  The old woman is given a choice at the end of the t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ight’s 3 complaints about his wife/Her re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is old – You should show respect to people who are old.  ll. 391-3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is poor – The truly poor are those who whine because they don’t get what they want.  A poor person has nothing that will tempt thieves.  Poverty brings one closer to God.  The poor know who their true friends are.  ll. 363-365, 370, 377-378, 3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is low bred – One isn’t a gentleman just because he is born into a good family.  ll.  328-3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rprise ending – The woman makes herself young, beautiful, AND faithfu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the knight learn?  Give women what they want, and they will make you hap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fe of Bath’s conclusion – Jesus should punish husbands who are bossy or stin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5:23:07Z</dcterms:created>
  <dc:creator>pcoles</dc:creator>
  <dc:description/>
  <dc:language>en-US</dc:language>
  <cp:lastModifiedBy> </cp:lastModifiedBy>
  <dcterms:modified xsi:type="dcterms:W3CDTF">2009-02-10T14:13:47Z</dcterms:modified>
  <cp:revision>5</cp:revision>
  <dc:subject/>
  <dc:title>The Wife of Bath</dc:title>
</cp:coreProperties>
</file>